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7C30-CE6F-4FBA-8A3F-3057E1F4E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FEE6-1BF7-4989-8467-2AE0D874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9079-CC25-4AE3-9367-5F9EE7F08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690D-EB33-4895-9030-6F35253FC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30DB-D8CA-489A-9B9B-EFB6836E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F031-84C8-4993-A648-75739DB4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8DE3-39DD-4E72-AFEE-A26C74F4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2800-6391-4F4E-B328-23E4D349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A186-8134-4A05-898B-D460DFF7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CA7E-7692-44EA-BFB4-CFF5F7DA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BA2A-FEED-4347-94F8-BCEBCA49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1FC4-6DFB-4DCC-B126-B7EEA266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D9CD-1333-45BE-B73E-96C13C5CB462}" type="slidenum">
              <a:rPr b="0" lang="en-N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000080" y="642960"/>
            <a:ext cx="77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Calibri"/>
              </a:rPr>
              <a:t>The Taj Maha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74040" y="2714760"/>
            <a:ext cx="29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By Chelsea Had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http://www.funonthenet.in/images/stories/forwards/Taj%20Mahal/taj-mahal.jpg"/>
          <p:cNvPicPr/>
          <p:nvPr/>
        </p:nvPicPr>
        <p:blipFill>
          <a:blip r:embed="rId1"/>
          <a:stretch/>
        </p:blipFill>
        <p:spPr>
          <a:xfrm>
            <a:off x="3714840" y="2428920"/>
            <a:ext cx="457992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4"/>
          <p:cNvSpPr/>
          <p:nvPr/>
        </p:nvSpPr>
        <p:spPr>
          <a:xfrm>
            <a:off x="729360" y="571680"/>
            <a:ext cx="501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aw a square using the rectangle tool on sketch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785880" y="1785960"/>
            <a:ext cx="692928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3"/>
          <p:cNvSpPr/>
          <p:nvPr/>
        </p:nvSpPr>
        <p:spPr>
          <a:xfrm>
            <a:off x="779760" y="857160"/>
            <a:ext cx="443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ing the push/pull tool, pull up your  squ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928800" y="1785960"/>
            <a:ext cx="711972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571680" y="428760"/>
            <a:ext cx="507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ep 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ing the circle tool draw a circle  make a circle on the corner of the squ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642960" y="1785960"/>
            <a:ext cx="743436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714960" y="92880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ep 4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ing the push/pull tool again pull up the circle so that it makes a to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928800" y="1928880"/>
            <a:ext cx="6976800" cy="43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4"/>
          <p:cNvSpPr/>
          <p:nvPr/>
        </p:nvSpPr>
        <p:spPr>
          <a:xfrm>
            <a:off x="669600" y="1000080"/>
            <a:ext cx="815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ep 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xt use the move/copy tool and make a tower on each of the corners of your 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071720" y="1928880"/>
            <a:ext cx="6833880" cy="42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3"/>
          <p:cNvSpPr/>
          <p:nvPr/>
        </p:nvSpPr>
        <p:spPr>
          <a:xfrm>
            <a:off x="677160" y="785880"/>
            <a:ext cx="59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draw a square right in the middle of your big squ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714240" y="1714680"/>
            <a:ext cx="7548840" cy="47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3"/>
          <p:cNvSpPr/>
          <p:nvPr/>
        </p:nvSpPr>
        <p:spPr>
          <a:xfrm>
            <a:off x="901440" y="857160"/>
            <a:ext cx="798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use the push/pull tool and pull up the square so that its about the s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 as your pilla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000080" y="1714680"/>
            <a:ext cx="747720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4"/>
          <p:cNvSpPr/>
          <p:nvPr/>
        </p:nvSpPr>
        <p:spPr>
          <a:xfrm>
            <a:off x="759960" y="785880"/>
            <a:ext cx="815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rectangle and arch tool to make the 4 windows and door on on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ls. Then use the Push/pull tool and push them in a little b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785880" y="1990800"/>
            <a:ext cx="74293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3:18Z</dcterms:created>
  <dc:creator>Diocesan School for Girls</dc:creator>
  <dc:description/>
  <dc:language>en-US</dc:language>
  <cp:lastModifiedBy>Diocesan School for Girls</cp:lastModifiedBy>
  <dcterms:modified xsi:type="dcterms:W3CDTF">2009-08-26T00:30:25Z</dcterms:modified>
  <cp:revision>2</cp:revision>
  <dc:subject/>
  <dc:title>Slide 1</dc:title>
</cp:coreProperties>
</file>